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A27-D292-44FA-957E-0174B74970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D9D-145B-4C39-A91A-E2244C994A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4EF-FEAB-4A41-BA9F-A2C53D9B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9ED-1446-4516-B441-0FA5D3D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F61-35B7-4290-BAFC-0D551DFB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176-E68A-4EAB-ABBA-C6C82372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DA15-DF8F-428C-80C0-82BDFE58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7F8-B70D-4528-B86D-373F441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055-5357-4A24-98F1-654EECE3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AC7-7616-4802-B5DF-66A1D57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AB2-5E12-4134-AA25-32B9AE1B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56F-46E1-490B-9F4D-20C8A47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1476-C1EB-4E6C-A934-A092F78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D1E-2875-45C4-A298-C8027DE8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9E80-1BF0-489D-B469-4845015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B40-C3D6-4988-9B54-3AEB45C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86C-D7FF-4C82-BA78-F1545BB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4CFE-4EC2-4619-A50E-666E6D37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3F14-015B-445E-A474-86095110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ED28-AACB-44CE-8467-3733107A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9AB3-F832-45C0-AFFE-FD6028E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1D0E-576C-4629-B22A-8A26C70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A010-6DC0-433C-B9E8-5003B08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0644-F271-4911-880E-9D06E64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F98-A683-4D65-B453-782913B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C48D-DEF3-4711-A14D-66466365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EFB4-A4BE-4F76-8803-97C48864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B470-37B3-433E-924D-594FE4C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714E-28E5-4D2B-8CD1-C08B712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D905-D349-4452-89EE-5E920E30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00C1-15EB-432B-B389-D9943F62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C40C-CA3C-4C76-ABA7-DDF3B5D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0E96-7B50-4518-9A30-B22505C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30C7-6512-4300-953F-1F14D67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0DE5-A15C-4C49-8A8E-2C30CF5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4AA-7AA3-4D86-8C04-258B82B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EB26-FB1B-4832-8AAB-4F2842A4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56A7-C03B-4BD3-BDEA-7FC37AE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FE34-C60F-4C31-9F3E-39409C1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AE69-D4C9-44BE-8227-C2AFC5D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D9AE-A3F7-49F5-A4B0-3969BE8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2DE9-FA8C-437F-856B-8AA0B9A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59B1-BCA6-4B54-BA8A-84A2D11E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8E3E-D309-4D29-BE8F-3BB0423E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CFA5-6C71-4DCD-A7E8-E69D5839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E0AA-672E-4A3A-859F-CE2EC9A3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9F9-7988-4585-BC5C-E26F6F2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BE82-9600-4AD5-8A81-81DC244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E6DF-89DA-44B8-B0C5-E1FACB8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E817-CFCA-47FE-87C8-02E0D5F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60B6-EDF4-4E3D-AA25-4BFE924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9DBD-043E-4C4F-885F-8B274BE6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5A40-6476-4673-83F7-03781C3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5D64-F37C-442E-BF9D-805326C6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89214-91FD-4CA6-9493-AA35D0D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C4B4-103D-4DAF-8FA3-83FAEC6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CB21-68D8-4F26-9939-FDCB8253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FEC-8C48-431B-9F47-1C85DF9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D37A-3D56-41DB-B047-0CEFFB70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F6AE-6AA1-412F-8AE6-104F78B8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FF42-0870-483F-8A18-E1A7784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7CBB-AE68-4DA3-9BBB-CB7EE71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832B-8558-48CE-8CB7-7EBBA67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E6B3-BB8A-4B84-A7F5-8FE2247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714A7-D89D-4905-8908-DABDFE6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095C-8B31-43E4-A392-C9BB579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C55E-866B-4E81-B1D0-3EED548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2ACAD-8CF5-4D39-8F2D-3251DFD3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F9-FE3C-40B6-9CF4-38A5DFC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7387-00E9-4756-9901-B9F82851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3A86-88A8-461E-875D-9A3628D5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3582-B3E0-4438-8611-86A0E403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7A8A-FB95-4878-9C44-B6944A54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AC5E-DE08-4177-905B-07D9B65E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3A77C-6973-44A0-BB30-E555CC5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134A-088C-4504-AB15-9083519B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59B4-5891-4399-87E7-522C5AEB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1715-F1F8-45F0-85D2-F7CCEA5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D270-6093-4B2B-8AF7-D470974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DB6-1B50-4CCD-B3F0-4814F3E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4317-A689-44B9-938B-E311246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F1C03-340E-4288-98AB-9ACDAC7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A1D2-76E5-4DD9-B775-512DA89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61D5-D686-4429-98DB-A6E2BCC6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99A3-E4B8-4802-9C64-6DE64D9C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200-8D8E-4484-9D8F-B9A98B7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297-F54A-49E6-BE8C-6AF39ADBBE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264A-0EE9-42F9-B438-2C23818FB1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9C9-3DA2-4DC5-920D-42A92D6C8E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F0D8-C869-49A8-8CF9-35CDE0FC77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833-7CDA-459C-ADE9-07E8DBEB33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1CDE-8B2E-4F5B-B1B8-E29F9E5FD3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1C27-5CC5-4A6C-8078-469BBDC725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" Target="slide6.xml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" Target="slide6.xml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0.xml"/><Relationship Id="rId14" Type="http://schemas.openxmlformats.org/officeDocument/2006/relationships/slide" Target="slide41.xml"/><Relationship Id="rId15" Type="http://schemas.openxmlformats.org/officeDocument/2006/relationships/slide" Target="slide42.xml"/><Relationship Id="rId16" Type="http://schemas.openxmlformats.org/officeDocument/2006/relationships/slide" Target="slide43.xml"/><Relationship Id="rId17" Type="http://schemas.openxmlformats.org/officeDocument/2006/relationships/slide" Target="slide44.xml"/><Relationship Id="rId18" Type="http://schemas.openxmlformats.org/officeDocument/2006/relationships/slide" Target="slide45.xml"/><Relationship Id="rId19" Type="http://schemas.openxmlformats.org/officeDocument/2006/relationships/slide" Target="slide46.xml"/><Relationship Id="rId20" Type="http://schemas.openxmlformats.org/officeDocument/2006/relationships/slide" Target="slide47.xml"/><Relationship Id="rId21" Type="http://schemas.openxmlformats.org/officeDocument/2006/relationships/slide" Target="slide48.xml"/><Relationship Id="rId2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960" y="30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, НАУКИ И МОЛОДЁЖНОЙ ПОЛИТИК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ОРОССИЙСКИЙ КОЛЛЕДЖ РАДИОЭЛЕКТРОННОГО ПРИБОРОСТРО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2400"/>
            </a:br>
            <a:endParaRPr b="0" lang="en-US" sz="1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166480" y="4210200"/>
            <a:ext cx="6147000" cy="21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 подготови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 математик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КК «НКРП»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волоцка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.Н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20 г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1685880" y="2030400"/>
            <a:ext cx="66740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СВОЯ ИГР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Y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ального чемпиона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иор Профи-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 в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февра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>
            <a:hlinkClick r:id="rId1" action="ppaction://hlinksldjump"/>
          </p:cNvPr>
          <p:cNvSpPr/>
          <p:nvPr/>
        </p:nvSpPr>
        <p:spPr>
          <a:xfrm>
            <a:off x="250920" y="981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Один мальчик охотился на кухне на тараканов и убил пятерых, а ранил в три раза больше. Трех тараканов мальчик ранил смертельно и они погибли от ран. А остальные тараканы выздоровели, но обиделись на мальчика и навсегда ушли к соседям. Сколько тараканов ушло к соседям навсегд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7999560" y="422280"/>
            <a:ext cx="66168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>
            <a:hlinkClick r:id="" action="ppaction://hlinkshowjump?jump=nextslide"/>
          </p:cNvPr>
          <p:cNvSpPr/>
          <p:nvPr/>
        </p:nvSpPr>
        <p:spPr>
          <a:xfrm>
            <a:off x="426960" y="2649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415800" y="1353960"/>
            <a:ext cx="8356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оле и Толе купили по 5 пирожных. Коля съел свои за 6 минут и стал сходить с ума от зависти, глядя, как Толя ест каждое пирожное по 4 минуты. Долго ли будет сходить с ума от зависти Кол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>
            <a:hlinkClick r:id="rId1" action="ppaction://hlinksldjump"/>
          </p:cNvPr>
          <p:cNvSpPr/>
          <p:nvPr/>
        </p:nvSpPr>
        <p:spPr>
          <a:xfrm>
            <a:off x="1504800" y="2046240"/>
            <a:ext cx="66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</a:rPr>
              <a:t>Сколько тупых углов в квадрат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>
            <a:hlinkClick r:id="rId1" action="ppaction://hlinksldjump"/>
          </p:cNvPr>
          <p:cNvSpPr/>
          <p:nvPr/>
        </p:nvSpPr>
        <p:spPr>
          <a:xfrm>
            <a:off x="243000" y="102384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В древности такого термина не было. Его ввел в 17 веке французский математик Франсуа Виет. В переводе с латинского он означает «спица колеса». Что это?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8" name="Oval 4"/>
          <p:cNvSpPr/>
          <p:nvPr/>
        </p:nvSpPr>
        <p:spPr>
          <a:xfrm>
            <a:off x="7878600" y="482760"/>
            <a:ext cx="66204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>
            <a:hlinkClick r:id="rId1" action="ppaction://hlinksldjump"/>
          </p:cNvPr>
          <p:cNvSpPr/>
          <p:nvPr/>
        </p:nvSpPr>
        <p:spPr>
          <a:xfrm>
            <a:off x="1685880" y="1925640"/>
            <a:ext cx="630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Сколько сторон имеет развернутый уго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>
            <a:hlinkClick r:id="rId1" action="ppaction://hlinksldjump"/>
          </p:cNvPr>
          <p:cNvSpPr/>
          <p:nvPr/>
        </p:nvSpPr>
        <p:spPr>
          <a:xfrm>
            <a:off x="303120" y="138420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Чтоб окружность верно сче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Надо только постарать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И запомнить все как е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Три – четырнадцать – пятнадцать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Девяносто два и ше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О чем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4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>
            <a:hlinkClick r:id="rId1" action="ppaction://hlinksldjump"/>
          </p:cNvPr>
          <p:cNvSpPr/>
          <p:nvPr/>
        </p:nvSpPr>
        <p:spPr>
          <a:xfrm>
            <a:off x="22320" y="522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т в мешке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j0346659"/>
          <p:cNvPicPr/>
          <p:nvPr/>
        </p:nvPicPr>
        <p:blipFill>
          <a:blip r:embed="rId4"/>
          <a:stretch/>
        </p:blipFill>
        <p:spPr>
          <a:xfrm>
            <a:off x="3570120" y="1233360"/>
            <a:ext cx="154476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6">
            <a:hlinkClick r:id="rId5" action="ppaction://hlinksldjump"/>
          </p:cNvPr>
          <p:cNvSpPr/>
          <p:nvPr/>
        </p:nvSpPr>
        <p:spPr>
          <a:xfrm>
            <a:off x="271440" y="298944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2046240" y="1925640"/>
                <a:ext cx="51116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Picture 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3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7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1"/>
          <p:cNvSpPr/>
          <p:nvPr/>
        </p:nvSpPr>
        <p:spPr>
          <a:xfrm>
            <a:off x="404640" y="1685880"/>
            <a:ext cx="7877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На столе лежит 1 апельсин. Его разрезали на 2 части, сколько апельсинов лежит на столе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дин оборот вокруг Земли спутник делает за 1 час 40 минут, а другой за 100 минут. Как такое может быт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2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своя игра загл"/>
          <p:cNvPicPr/>
          <p:nvPr/>
        </p:nvPicPr>
        <p:blipFill>
          <a:blip r:embed="rId1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329" name="WordArt 3"/>
          <p:cNvSpPr txBox="1"/>
          <p:nvPr/>
        </p:nvSpPr>
        <p:spPr>
          <a:xfrm>
            <a:off x="784080" y="422280"/>
            <a:ext cx="70344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>
            <a:hlinkClick r:id="rId1" action="ppaction://hlinksldjump"/>
          </p:cNvPr>
          <p:cNvSpPr/>
          <p:nvPr/>
        </p:nvSpPr>
        <p:spPr>
          <a:xfrm>
            <a:off x="176040" y="2346480"/>
            <a:ext cx="864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3,2 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∙ 0,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>
            <a:hlinkClick r:id="rId3" action="ppaction://hlinksldjump"/>
          </p:cNvPr>
          <p:cNvSpPr/>
          <p:nvPr/>
        </p:nvSpPr>
        <p:spPr>
          <a:xfrm>
            <a:off x="1325520" y="3489480"/>
            <a:ext cx="667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8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125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>
            <a:hlinkClick r:id="rId1" action="ppaction://hlinksldjump"/>
          </p:cNvPr>
          <p:cNvSpPr/>
          <p:nvPr/>
        </p:nvSpPr>
        <p:spPr>
          <a:xfrm>
            <a:off x="1386000" y="1625760"/>
            <a:ext cx="7207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Груша тяжелее, чем яблоко. А яблоко тяжелее персика. Что тяжелее груша или перс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>
            <a:hlinkClick r:id="rId1" action="ppaction://hlinksldjump"/>
          </p:cNvPr>
          <p:cNvSpPr/>
          <p:nvPr/>
        </p:nvSpPr>
        <p:spPr>
          <a:xfrm>
            <a:off x="844560" y="963720"/>
            <a:ext cx="7678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Если бы завтра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5" name="Oval 4"/>
          <p:cNvSpPr/>
          <p:nvPr/>
        </p:nvSpPr>
        <p:spPr>
          <a:xfrm>
            <a:off x="7939080" y="4222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8"/>
          <p:cNvSpPr/>
          <p:nvPr/>
        </p:nvSpPr>
        <p:spPr>
          <a:xfrm>
            <a:off x="363600" y="4511520"/>
            <a:ext cx="847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8" name="Oval 2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1"/>
          <p:cNvSpPr/>
          <p:nvPr/>
        </p:nvSpPr>
        <p:spPr>
          <a:xfrm>
            <a:off x="363600" y="2081160"/>
            <a:ext cx="793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асиного отца зовут Иван Николаевич, а дедушку - Семен Петрович. Какое отчество у Васиной мамы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>
            <a:hlinkClick r:id="rId1" action="ppaction://hlinksldjump"/>
          </p:cNvPr>
          <p:cNvSpPr/>
          <p:nvPr/>
        </p:nvSpPr>
        <p:spPr>
          <a:xfrm>
            <a:off x="963720" y="1263600"/>
            <a:ext cx="750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1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>
            <a:hlinkClick r:id="rId1" action="ppaction://hlinksldjump"/>
          </p:cNvPr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j0346659"/>
          <p:cNvPicPr/>
          <p:nvPr/>
        </p:nvPicPr>
        <p:blipFill>
          <a:blip r:embed="rId4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16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735120" y="4151160"/>
            <a:ext cx="796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колько месяцев в год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меют 28 дней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6"/>
          <p:cNvSpPr txBox="1"/>
          <p:nvPr/>
        </p:nvSpPr>
        <p:spPr>
          <a:xfrm rot="21435600">
            <a:off x="1080720" y="369360"/>
            <a:ext cx="720108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2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62">
            <a:hlinkClick r:id="rId1" action="ppaction://hlinksldjump"/>
          </p:cNvPr>
          <p:cNvSpPr/>
          <p:nvPr/>
        </p:nvSpPr>
        <p:spPr>
          <a:xfrm>
            <a:off x="6012000" y="6308640"/>
            <a:ext cx="3132000" cy="549360"/>
          </a:xfrm>
          <a:custGeom>
            <a:avLst/>
            <a:gdLst>
              <a:gd name="textAreaLeft" fmla="*/ 35280 w 3132000"/>
              <a:gd name="textAreaRight" fmla="*/ 3096720 w 31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23079" h="21600">
                <a:moveTo>
                  <a:pt x="0" y="0"/>
                </a:moveTo>
                <a:lnTo>
                  <a:pt x="123079" y="0"/>
                </a:lnTo>
                <a:lnTo>
                  <a:pt x="123079" y="21600"/>
                </a:lnTo>
                <a:lnTo>
                  <a:pt x="0" y="21600"/>
                </a:lnTo>
                <a:close/>
              </a:path>
              <a:path fill="lightenLess" w="123079" h="21600">
                <a:moveTo>
                  <a:pt x="0" y="0"/>
                </a:moveTo>
                <a:lnTo>
                  <a:pt x="123079" y="0"/>
                </a:lnTo>
                <a:lnTo>
                  <a:pt x="121679" y="1400"/>
                </a:lnTo>
                <a:lnTo>
                  <a:pt x="1400" y="1400"/>
                </a:lnTo>
                <a:close/>
              </a:path>
              <a:path fill="darken" w="123079" h="21600">
                <a:moveTo>
                  <a:pt x="123079" y="0"/>
                </a:moveTo>
                <a:lnTo>
                  <a:pt x="123079" y="21600"/>
                </a:lnTo>
                <a:lnTo>
                  <a:pt x="121679" y="20200"/>
                </a:lnTo>
                <a:lnTo>
                  <a:pt x="121679" y="1400"/>
                </a:lnTo>
                <a:close/>
              </a:path>
              <a:path fill="darkenLess" w="123079" h="21600">
                <a:moveTo>
                  <a:pt x="1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679" y="20200"/>
                </a:lnTo>
                <a:close/>
              </a:path>
              <a:path fill="lighten" w="1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3120" y="843120"/>
          <a:ext cx="8537760" cy="3608280"/>
        </p:xfrm>
        <a:graphic>
          <a:graphicData uri="http://schemas.openxmlformats.org/drawingml/2006/table">
            <a:tbl>
              <a:tblPr/>
              <a:tblGrid>
                <a:gridCol w="3265560"/>
                <a:gridCol w="1050840"/>
                <a:gridCol w="1055880"/>
                <a:gridCol w="1055520"/>
                <a:gridCol w="1054080"/>
                <a:gridCol w="10558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с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Многоугольни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равнения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>
            <a:hlinkClick r:id="rId1" action="ppaction://hlinksldjump"/>
          </p:cNvPr>
          <p:cNvSpPr/>
          <p:nvPr/>
        </p:nvSpPr>
        <p:spPr>
          <a:xfrm>
            <a:off x="1746360" y="1805040"/>
            <a:ext cx="589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ми двумя нотами измеряется морской путь?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3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423720" y="243000"/>
            <a:ext cx="8477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itz Quadrata Cyrillic"/>
              </a:rPr>
              <a:t>Правила игр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игре принимают участие 2 команды по 4 человека. Задача каждой команды набрать как можно большее количество баллов. Для этого необходимо правильно ответить на вопросы 2-х отборочных туров . В финальной игре  необходимо не только правильно ответить, но и сделать большую ставку на свой от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отборочных турах каждый вопрос имеет свою стоимость, на обдумывание дается одна минута, отвечает та команда, которая быстрее поднимет руку. Если команда ответила правильно, то она выбирает следующий вопро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  <a:ea typeface="Cambria"/>
              </a:rPr>
              <a:t>вопрос – аукцион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Cambria"/>
              </a:rPr>
              <a:t>  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вопрос </a:t>
            </a:r>
            <a:r>
              <a:rPr b="1" lang="ru-RU" sz="2000" spc="-1" strike="noStrike" u="sng">
                <a:solidFill>
                  <a:srgbClr val="3b1d15"/>
                </a:solidFill>
                <a:uFillTx/>
                <a:latin typeface="Cambria"/>
                <a:ea typeface="Cambria"/>
              </a:rPr>
              <a:t>кот в мешке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 отвечает та команда, которой отдает это право команда, выбравшая вопр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Если команда отвечает правильно –  баллы прибавляются, если неправильно – вычит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>
            <a:hlinkClick r:id="rId1" action="ppaction://hlinksldjump"/>
          </p:cNvPr>
          <p:cNvSpPr/>
          <p:nvPr/>
        </p:nvSpPr>
        <p:spPr>
          <a:xfrm>
            <a:off x="1444680" y="1805040"/>
            <a:ext cx="630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е ноты при соединении обозначают только часть чего-либо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>
            <a:hlinkClick r:id="rId1" action="ppaction://hlinksldjump"/>
          </p:cNvPr>
          <p:cNvSpPr/>
          <p:nvPr/>
        </p:nvSpPr>
        <p:spPr>
          <a:xfrm>
            <a:off x="1925640" y="2166840"/>
            <a:ext cx="517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Из каких нот можно составить овощ?</a:t>
            </a:r>
            <a:r>
              <a:rPr b="0" lang="ru-RU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9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>
            <a:hlinkClick r:id="rId3" action="ppaction://hlinksldjump"/>
          </p:cNvPr>
          <p:cNvSpPr/>
          <p:nvPr/>
        </p:nvSpPr>
        <p:spPr>
          <a:xfrm>
            <a:off x="723960" y="2766960"/>
            <a:ext cx="79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естественном спутнике Земли голубого цве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>
            <a:hlinkClick r:id="rId1" action="ppaction://hlinksldjump"/>
          </p:cNvPr>
          <p:cNvSpPr/>
          <p:nvPr/>
        </p:nvSpPr>
        <p:spPr>
          <a:xfrm>
            <a:off x="1504800" y="1805040"/>
            <a:ext cx="654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двух агрегатных состояниях воды, одно из которых привело к гибели Титаника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>
            <a:hlinkClick r:id="rId1" action="ppaction://hlinksldjump"/>
          </p:cNvPr>
          <p:cNvSpPr/>
          <p:nvPr/>
        </p:nvSpPr>
        <p:spPr>
          <a:xfrm>
            <a:off x="1986120" y="1625760"/>
            <a:ext cx="541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Эти числа появились в связи с необходимостью подсчета предмет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>
            <a:hlinkClick r:id="rId1" action="ppaction://hlinksldjump"/>
          </p:cNvPr>
          <p:cNvSpPr/>
          <p:nvPr/>
        </p:nvSpPr>
        <p:spPr>
          <a:xfrm>
            <a:off x="1746360" y="1444680"/>
            <a:ext cx="5651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Что можно сказать о числах, которые оканчиваются нулем или четной цифрой?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>
            <a:hlinkClick r:id="rId1" action="ppaction://hlinksldjump"/>
          </p:cNvPr>
          <p:cNvSpPr/>
          <p:nvPr/>
        </p:nvSpPr>
        <p:spPr>
          <a:xfrm>
            <a:off x="1386000" y="657360"/>
            <a:ext cx="60055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Если число неизвестно, то, скорее всего его напишут именно так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Ответьте: ка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5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>
            <a:hlinkClick r:id="rId1" action="ppaction://hlinksldjump"/>
          </p:cNvPr>
          <p:cNvSpPr/>
          <p:nvPr/>
        </p:nvSpPr>
        <p:spPr>
          <a:xfrm>
            <a:off x="465120" y="1925640"/>
            <a:ext cx="775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сколько раз увеличится число, если приписать к нему такую же цифру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8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>
            <a:hlinkClick r:id="rId1" action="ppaction://hlinksldjump"/>
          </p:cNvPr>
          <p:cNvSpPr/>
          <p:nvPr/>
        </p:nvSpPr>
        <p:spPr>
          <a:xfrm>
            <a:off x="905040" y="1084320"/>
            <a:ext cx="714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амое меньшее натуральное число известно, а самого большого нет. Этот знак помогает обозначить сложившуюся ситуацию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1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>
            <a:hlinkClick r:id="rId1" action="ppaction://hlinksldjump"/>
          </p:cNvPr>
          <p:cNvSpPr/>
          <p:nvPr/>
        </p:nvSpPr>
        <p:spPr>
          <a:xfrm>
            <a:off x="1055520" y="2106720"/>
            <a:ext cx="739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Какой многоугольник называют правильным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0" y="260280"/>
            <a:ext cx="45115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1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Д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инии. Фигу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Считаю уст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ог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535640" y="260280"/>
            <a:ext cx="490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2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узы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ного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0" y="2997360"/>
            <a:ext cx="9144000" cy="571320"/>
            <a:chOff x="0" y="2997360"/>
            <a:chExt cx="9144000" cy="571320"/>
          </a:xfrm>
        </p:grpSpPr>
        <p:pic>
          <p:nvPicPr>
            <p:cNvPr id="334" name="Picture 13" descr="blebannd"/>
            <p:cNvPicPr/>
            <p:nvPr/>
          </p:nvPicPr>
          <p:blipFill>
            <a:blip r:embed="rId1"/>
            <a:stretch/>
          </p:blipFill>
          <p:spPr>
            <a:xfrm>
              <a:off x="0" y="299736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5" descr="blebannd"/>
            <p:cNvPicPr/>
            <p:nvPr/>
          </p:nvPicPr>
          <p:blipFill>
            <a:blip r:embed="rId2"/>
            <a:stretch/>
          </p:blipFill>
          <p:spPr>
            <a:xfrm flipH="1">
              <a:off x="4356000" y="299736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17"/>
          <p:cNvGrpSpPr/>
          <p:nvPr/>
        </p:nvGrpSpPr>
        <p:grpSpPr>
          <a:xfrm>
            <a:off x="0" y="0"/>
            <a:ext cx="9144000" cy="571680"/>
            <a:chOff x="0" y="0"/>
            <a:chExt cx="9144000" cy="571680"/>
          </a:xfrm>
        </p:grpSpPr>
        <p:pic>
          <p:nvPicPr>
            <p:cNvPr id="337" name="Picture 18" descr="blebannd"/>
            <p:cNvPicPr/>
            <p:nvPr/>
          </p:nvPicPr>
          <p:blipFill>
            <a:blip r:embed="rId3"/>
            <a:stretch/>
          </p:blipFill>
          <p:spPr>
            <a:xfrm flipH="1" rot="10800000">
              <a:off x="0" y="0"/>
              <a:ext cx="435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9" descr="blebannd"/>
            <p:cNvPicPr/>
            <p:nvPr/>
          </p:nvPicPr>
          <p:blipFill>
            <a:blip r:embed="rId4"/>
            <a:stretch/>
          </p:blipFill>
          <p:spPr>
            <a:xfrm rot="10800000">
              <a:off x="4356000" y="0"/>
              <a:ext cx="4788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20"/>
          <p:cNvSpPr/>
          <p:nvPr/>
        </p:nvSpPr>
        <p:spPr>
          <a:xfrm>
            <a:off x="1925640" y="4151160"/>
            <a:ext cx="4897440" cy="17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Финальная иг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Шиф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Змей Горыны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Курица и яйц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1" descr="blenavha"/>
          <p:cNvPicPr/>
          <p:nvPr/>
        </p:nvPicPr>
        <p:blipFill>
          <a:blip r:embed="rId5"/>
          <a:stretch/>
        </p:blipFill>
        <p:spPr>
          <a:xfrm>
            <a:off x="3995640" y="189000"/>
            <a:ext cx="5716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2"/>
          <p:cNvGrpSpPr/>
          <p:nvPr/>
        </p:nvGrpSpPr>
        <p:grpSpPr>
          <a:xfrm>
            <a:off x="0" y="6286680"/>
            <a:ext cx="9144000" cy="571320"/>
            <a:chOff x="0" y="6286680"/>
            <a:chExt cx="9144000" cy="571320"/>
          </a:xfrm>
        </p:grpSpPr>
        <p:pic>
          <p:nvPicPr>
            <p:cNvPr id="342" name="Picture 23" descr="blebannd"/>
            <p:cNvPicPr/>
            <p:nvPr/>
          </p:nvPicPr>
          <p:blipFill>
            <a:blip r:embed="rId6"/>
            <a:stretch/>
          </p:blipFill>
          <p:spPr>
            <a:xfrm>
              <a:off x="0" y="628668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4" descr="blebannd"/>
            <p:cNvPicPr/>
            <p:nvPr/>
          </p:nvPicPr>
          <p:blipFill>
            <a:blip r:embed="rId7"/>
            <a:stretch/>
          </p:blipFill>
          <p:spPr>
            <a:xfrm flipH="1">
              <a:off x="4356000" y="628668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>
            <a:hlinkClick r:id="" action="ppaction://hlinkshowjump?jump=nextslide"/>
          </p:cNvPr>
          <p:cNvSpPr/>
          <p:nvPr/>
        </p:nvSpPr>
        <p:spPr>
          <a:xfrm>
            <a:off x="243000" y="6634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1325520" y="2106720"/>
            <a:ext cx="67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с помощью только одной палочки образовать на столе треугольн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542880" y="603360"/>
            <a:ext cx="8058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Название этого четырехугольника происходит от греческого слова, в переводе на русский означающее «столик», от него так же произошло слово – «трапеза».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63720" y="963720"/>
            <a:ext cx="732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Термин греческого происхождения, означающий в древности вращающееся тело – веретено, юлу. О какой фигуре идет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63600" y="1324080"/>
            <a:ext cx="8340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тя и Лёня делают цветник квадратной формы. Петя сказал :«Сделаем так, чтобы сторона нашего квадрата была на 12 м меньше его периметра». Какой будет длина стороны этого цветни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7819920" y="6634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9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650880" y="517680"/>
            <a:ext cx="7567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рзине было неизвестное количество яблок. Сначала из нее взяли 12 яблок, а потом положили туда 5 яблок. В результате в корзине стало 24 яблока. Сколько яблок было в корзине первоначаль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1084320" y="114444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Бутылка с пробкой стоит 11 рублей. Бутылка на 10 рублей дороже пробки. Сколько стоит пробка?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3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6" descr="j0346659"/>
          <p:cNvPicPr/>
          <p:nvPr/>
        </p:nvPicPr>
        <p:blipFill>
          <a:blip r:embed="rId2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723960" y="3549600"/>
            <a:ext cx="7999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Это название происходит от двух латинских слов «дважды» и «секу», буквально «рассекающиеся на две части». О чем идет речь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084320" y="1204920"/>
            <a:ext cx="702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от способ решения уравнения не всегда дает точные значения корней и требует чертежных навыков от решающего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1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4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1"/>
          <p:cNvSpPr/>
          <p:nvPr/>
        </p:nvSpPr>
        <p:spPr>
          <a:xfrm>
            <a:off x="606600" y="1685880"/>
            <a:ext cx="7929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гда моему отцу был 31 год, мне было 8 лет, а теперь отец старше меня вдвое. Сколько мне лет тепер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иналь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276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Финальный тур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8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1866960" y="2106720"/>
            <a:ext cx="5014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c4853"/>
                </a:solidFill>
                <a:latin typeface="Monotype Corsiva"/>
              </a:rPr>
              <a:t>Шифров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1c4853"/>
                </a:solidFill>
                <a:uFillTx/>
                <a:latin typeface="Monotype Corsiva"/>
              </a:rPr>
              <a:t>Змей Горыны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>
              <a:lnSpc>
                <a:spcPct val="100000"/>
              </a:lnSpc>
              <a:spcBef>
                <a:spcPts val="1349"/>
              </a:spcBef>
              <a:buClr>
                <a:srgbClr val="cc00ff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c00ff"/>
                </a:solidFill>
                <a:uFillTx/>
                <a:latin typeface="Monotype Corsiva"/>
              </a:rPr>
              <a:t>Курица и яй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1986120" y="603360"/>
            <a:ext cx="52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Times New Roman"/>
              </a:rPr>
              <a:t>Расшифруйте слова и назовите лишне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1954080" y="2406600"/>
            <a:ext cx="514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б  к  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л  о  п  с  о  т  ь  к 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а  т  ч  о  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я м  а  я  п  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7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243000" y="482760"/>
            <a:ext cx="8537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Жил-был Змей Горыныч. Он был очень привередлив в еде. Его правая голова не любила фрукты и терпеть не могла котлеты. Его левая голова не переносила груши. На обед подали груши, мороженое и котлеты. Что выберет каждая голова Горыныча на обе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41440" y="1625760"/>
            <a:ext cx="79372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Три курицы за три дня несут три яйца. Сколько яиц снесут 12 таких же кур за 12 дней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1925640" y="1744560"/>
            <a:ext cx="517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ff"/>
                </a:solidFill>
                <a:latin typeface="Times New Roman"/>
              </a:rPr>
              <a:t>Подведем итоги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99"/>
          <p:cNvPicPr/>
          <p:nvPr/>
        </p:nvPicPr>
        <p:blipFill>
          <a:blip r:embed="rId1"/>
          <a:stretch/>
        </p:blipFill>
        <p:spPr>
          <a:xfrm>
            <a:off x="6796080" y="403056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99"/>
          <p:cNvPicPr/>
          <p:nvPr/>
        </p:nvPicPr>
        <p:blipFill>
          <a:blip r:embed="rId2"/>
          <a:stretch/>
        </p:blipFill>
        <p:spPr>
          <a:xfrm>
            <a:off x="243000" y="4091040"/>
            <a:ext cx="1981080" cy="25812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5"/>
          <p:cNvSpPr txBox="1"/>
          <p:nvPr/>
        </p:nvSpPr>
        <p:spPr>
          <a:xfrm>
            <a:off x="723960" y="301680"/>
            <a:ext cx="7877160" cy="36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здравля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бед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2" name="Picture 6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9840" y="397044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ЭМБЛЕМА%20СОВЕНОК"/>
          <p:cNvPicPr/>
          <p:nvPr/>
        </p:nvPicPr>
        <p:blipFill>
          <a:blip r:embed="rId5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168">
            <a:hlinkClick r:id="rId1" action="ppaction://hlinksldjump"/>
          </p:cNvPr>
          <p:cNvSpPr/>
          <p:nvPr/>
        </p:nvSpPr>
        <p:spPr>
          <a:xfrm>
            <a:off x="7846920" y="6308640"/>
            <a:ext cx="1297080" cy="549360"/>
          </a:xfrm>
          <a:custGeom>
            <a:avLst/>
            <a:gdLst>
              <a:gd name="textAreaLeft" fmla="*/ 35280 w 1297080"/>
              <a:gd name="textAreaRight" fmla="*/ 1261800 w 1297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0980" h="21600">
                <a:moveTo>
                  <a:pt x="0" y="0"/>
                </a:moveTo>
                <a:lnTo>
                  <a:pt x="50980" y="0"/>
                </a:lnTo>
                <a:lnTo>
                  <a:pt x="50980" y="21600"/>
                </a:lnTo>
                <a:lnTo>
                  <a:pt x="0" y="21600"/>
                </a:lnTo>
                <a:close/>
              </a:path>
              <a:path fill="lightenLess" w="50980" h="21600">
                <a:moveTo>
                  <a:pt x="0" y="0"/>
                </a:moveTo>
                <a:lnTo>
                  <a:pt x="50980" y="0"/>
                </a:lnTo>
                <a:lnTo>
                  <a:pt x="49580" y="1400"/>
                </a:lnTo>
                <a:lnTo>
                  <a:pt x="1400" y="1400"/>
                </a:lnTo>
                <a:close/>
              </a:path>
              <a:path fill="darken" w="50980" h="21600">
                <a:moveTo>
                  <a:pt x="50980" y="0"/>
                </a:moveTo>
                <a:lnTo>
                  <a:pt x="50980" y="21600"/>
                </a:lnTo>
                <a:lnTo>
                  <a:pt x="49580" y="20200"/>
                </a:lnTo>
                <a:lnTo>
                  <a:pt x="49580" y="1400"/>
                </a:lnTo>
                <a:close/>
              </a:path>
              <a:path fill="darkenLess" w="50980" h="21600">
                <a:moveTo>
                  <a:pt x="5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80" y="20200"/>
                </a:lnTo>
                <a:close/>
              </a:path>
              <a:path fill="lighten" w="5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3120" y="1263600"/>
          <a:ext cx="8597880" cy="3729240"/>
        </p:xfrm>
        <a:graphic>
          <a:graphicData uri="http://schemas.openxmlformats.org/drawingml/2006/table">
            <a:tbl>
              <a:tblPr/>
              <a:tblGrid>
                <a:gridCol w="3102120"/>
                <a:gridCol w="1100160"/>
                <a:gridCol w="1096920"/>
                <a:gridCol w="1101600"/>
                <a:gridCol w="1096920"/>
                <a:gridCol w="110016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Дет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898c3"/>
                          </a:solidFill>
                          <a:latin typeface="Times New Roman"/>
                          <a:ea typeface="Times New Roman"/>
                        </a:rPr>
                        <a:t>Линии. Фигур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6633"/>
                          </a:solidFill>
                          <a:latin typeface="Times New Roman"/>
                          <a:ea typeface="Times New Roman"/>
                        </a:rPr>
                        <a:t>Считаю устн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и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В доме 12 чашек и 9 блюдечек. Дети разбили половину чашек и 7 блюдечек. Сколько чашек осталось без блюдече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4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>
            <a:hlinkClick r:id="rId1" action="ppaction://hlinksldjump"/>
          </p:cNvPr>
          <p:cNvSpPr/>
          <p:nvPr/>
        </p:nvSpPr>
        <p:spPr>
          <a:xfrm>
            <a:off x="243000" y="15652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У старшего брата 2 конфеты, а у младшего 12 конфет. Сколько конфет должен отнять старший у младшего, чтобы справедливость восторжествовала, и между братьями наступило равенство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2" name="Oval 4"/>
          <p:cNvSpPr/>
          <p:nvPr/>
        </p:nvSpPr>
        <p:spPr>
          <a:xfrm>
            <a:off x="7999560" y="30168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>
            <a:hlinkClick r:id="rId1" action="ppaction://hlinksldjump"/>
          </p:cNvPr>
          <p:cNvSpPr/>
          <p:nvPr/>
        </p:nvSpPr>
        <p:spPr>
          <a:xfrm>
            <a:off x="250920" y="90792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Когда младенца Кузю поцарапала кошка, он орал 5 мин, когда его укусила оса, он орал на 3 мин больше. Но, когда собственная мать набросилась на него и начала мыть с мылом, Кузя орал в 2 раза дольше, чем после укуса осы. Мама мыла Кузю 11 минут. Сколько минут орал уже вымытый Кузя?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5" name="Oval 4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>Женя</dc:creator>
  <dc:description/>
  <dc:language>en-US</dc:language>
  <cp:lastModifiedBy>Windows User</cp:lastModifiedBy>
  <cp:lastPrinted>2020-02-10T17:10:22Z</cp:lastPrinted>
  <dcterms:modified xsi:type="dcterms:W3CDTF">2020-02-21T16:29:54Z</dcterms:modified>
  <cp:revision>62</cp:revision>
  <dc:subject/>
  <dc:title>Слайд 1</dc:title>
</cp:coreProperties>
</file>